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EC53-FCE2-4AC3-8987-0AC957556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9717-669B-4644-AE4A-FAEB3BDF7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464-6784-40E8-A65D-2B8114E14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F09-6759-4FF4-AF25-D34CBF41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029-6DB0-433E-8DC4-7B3325B9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2BA-B811-4C14-850E-6C5D78BC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FE6-E86D-4339-941A-FD8CF4D2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1B4-A60F-467D-858F-9F517213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E09-00AC-44CB-90F7-4EE8872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03-7A79-4CEF-A178-F1AB8DD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CDE-D1DB-4E00-9B35-5296967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6C5-E92E-4FFD-983A-5DBDA734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55A-889E-4A38-A082-DBE367E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D0D-A4E2-48CB-A692-D0293D6C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805-86B2-4FA5-A226-DD29888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8AD-1232-4405-82F2-236A1FF62EF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14716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 НЕДЕЉА НАСТАВЕ</a:t>
            </a:r>
            <a:br>
              <a:rPr sz="2800"/>
            </a:br>
            <a:br>
              <a:rPr sz="2800"/>
            </a:b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БИОЕНЕРГЕТСКЕ ОДРЕДНИЦЕ ФИЗИЧКЕ СПОСОБНОСТИ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медиц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60360" y="5715000"/>
            <a:ext cx="46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ц. др Јована Јоксимовић Јови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ИКОГЕН- МЛЕЧНА КИСЕЛ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ваки молекул глукозе који је разложен на пируват током гликолизе, бивају произведена по два молекула искористивог ATP-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 је пируват формиран, кренуће једним од два правца: то су конверзија до лактата или конверзија до метаболичког молекула ацетил-коензим А (ацетил-CoA), који долази до митохондрија ради оксидације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укције ATP-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ЕРОБНИ 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али супстрати који могу помоћи телу у продукцији ATP-а свакако су масти, угљени хидрати и проте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ти су комплексни молекули, сачињени од масних киселина и глицеро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у су потребни за раст, енергију као и за многе друге функције, јер масти су, пре свега, једна од основних компоненти сваке живе ћел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о користи масти и за синтезу хормона, као и осталих супстанци потребних за људске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ЕРОБНИ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сти су најспорији извор енергије, али енергетски најефикаснија форма хране. Један грам масти садржи 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cal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о представља више него двоструко већу количину енергије од угљених хидрата и протеина, који садрже 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cal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 гра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ЕРОБНИ ЕНЕРГЕТСКИ РЕСУРСИ 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ЕРОБНА СПОСОБ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 говоримо о важности CP и анаеробне гликолизе као извора енерг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анаеробним процесима, битно је знати да депои фосфокреатина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има могу бити исцрпљени готово у потпуности при интензив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жбама, обезбеђујући при томе еквимоларну количину ATP-а, однос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 70 mmol по килограму сувог мишића код љу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ЕРОБНИ ЕНЕРГЕТСКИ РЕСУРСИ 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ЕРОБНА СПОСОБ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ероб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лизом (на пример, гликоген- лактат) добија се 1,5 mmol ATP-а п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лимолу лактата. На пример, у току интензивног напора у бициклизм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VO2 max, количина лактата у мишићима може се повећати од 5 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3 mmol/kg, што одговара количини од 162 mmol ATP/kg сувог миш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да ће део произведених лактата бити ко-транспортован с водонич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онима у екстрацелуларну течност, чиме ће се смањити оптерећ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рацелуларном киселошћу и омогућити даља гликоли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ористивост фосфокреатина и анаеробна производња ATP-а при интензивним физичким вежбама биће високи на почетку вежбања, док ће гликолиза доминирати након 6 s вежб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ом опоравка, фосфокреатин се брзо ресинтетише, при чему ће се половина укупне количине ресинтетисати након 30 s, док, с друге стране, уклањање лактата у мишићима представља процес који се доста спорије одв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вина укупне количине нагомиланих лактатних нуспродуката метаболизма ће се уклонити након 10 мину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оку интензивне физичке активности с кратким периодима опоравка, фосфокреатин је доминантан извор анаеробне производње ATP-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отреба фосфокреатина и анаеробне гликолизе као два важна енергетска процеса искључиво зависи од дужине трајања, интензитета и врсте физичке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еробни 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еробни метаболизам путем оксидације угљених хидрата и масти (рет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беланчевина) даје енергију за дуготрајну физичку активност ниског 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њег интензит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ни систем за кисеоник (кардиоваскулар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еспираторни систем) обезбеђује довољну количину кисеоника (О2), па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нцу оксидативних процеса (Кребсов циклус и оксидативна фосфорилација) унутар митохондрија настаје ATP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еробни метаболизам ствара енергију много спорије од анаеробног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даје довољно ATP-а за физичке активности високог интензитета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и обезбеђује довољно енергије да се рад умереног интензитета мо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ржати и у периоду од више час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ероб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соб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еробна способност је капацитет организма да аеробним метаболичк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има ствара енергију за физички ра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ајвише зависи 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ности срца да повећањем минутног волумена допрема актив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има адекватну количину О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еробна способ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дефинисање аеробне способности, у спортској медицини, најважнији параметар је максимална потрошња кисео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представља максимални аеробни капацитет, јер указује на максималну количину енергије која се добија аеробним метаболизмом у јединици вр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O2 max се обично изражава у милилитрима по килограму по минуту, јер особе с већом телесном масом имају већу потрошњу, па се на тај начин нор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ИОЕНЕРГЕТСКЕ ОДРЕДНИЦЕ ФИЗИЧ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ПОСОБ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нергија је неопходна за све типове процеса који се дешавају у нашем телу, укључујући раст и развој, обнову, транспорт разних супстанци на ћелијском нивоу и, наравно, контракцију миш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иоенергетика или наука о протоку енергије кроз животне системе јесте први и незаобилазни део физиологије 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 физиологији спорта, било да се ради о маратонском трчању или о јед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ксплозивном покрету или скоку, мишићи су покренути једним и само једним елементом, а то је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ло складишти само малу колич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ве „енергетске валуте“ у ћелијама и она је присутна само да потпомог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колико напорних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тога тело мора да замени и ресинтетиш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ATP, и тај процес стално тра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рачунавањем VO2 max у метаболичке еквивален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то је суштина тестирања у квантификацији оствареног рада, она 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иже прерачунавањем VO2 max у метаболичке еквиваленте (МЕТ), где МЕТ одговара директно измереној VO2 здраве особе мушког пола, теж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0 kg или 3,5 ml/kg/min у стању миро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ректно одређ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 могуће је само када је позната VO2, што је неопходно за проце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алног статуса и степена 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цена способности и функционалне класе на основу постигнутих М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 се ради тест физичким оптерећењем (ТФО) без анализе гасова, МЕТ се могу индиректно процењивати на основу постигнутог нивоа оптерећења на покретној траци, према форму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 = [Брзина траке x {0,1 + (нагиб x 1,8)} + 3,5] / 3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27746" t="55212" r="29503" b="16668"/>
          <a:stretch/>
        </p:blipFill>
        <p:spPr>
          <a:xfrm>
            <a:off x="1278000" y="4038480"/>
            <a:ext cx="6799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VO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расте током физичког оптерећ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те током физичког оптерећења, достижући максималну вредност за тај тест,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 ретко постиже, сем код изузетно способних, утренираних особа, па се у интерпретацији умес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исти вршна потрошња кисеони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k VO2)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а представља највишу вредност постигнуту током кардиопулмоналног теста физичким оптерећење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PX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последњих 20–3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енутак постиза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нифестује се појавом плато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чекиване вредности VO2 max за мушкар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rcRect l="26335" t="26939" r="26338" b="46127"/>
          <a:stretch/>
        </p:blipFill>
        <p:spPr>
          <a:xfrm>
            <a:off x="166680" y="1905120"/>
            <a:ext cx="881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киване вредности V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max за ж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4" descr=""/>
          <p:cNvPicPr/>
          <p:nvPr/>
        </p:nvPicPr>
        <p:blipFill>
          <a:blip r:embed="rId1"/>
          <a:srcRect l="26335" t="58927" r="26338" b="14139"/>
          <a:stretch/>
        </p:blipFill>
        <p:spPr>
          <a:xfrm>
            <a:off x="47520" y="2438280"/>
            <a:ext cx="904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актори који утичу на VO2 m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више утич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. генетика (20–30%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. старост (после 25. годи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пада за 1% годишње – регуларни тренинг то умањуј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. утренираност (доноси промен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20%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4. тип теста (трака/бицикл/пливањ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. пол (жене остварују 15–30% ниже вред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. састав тел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2 max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пада са садржајем ма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иректна проце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2 ma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се користе субмаксимални тестови у којима се VO2 max предвиђа на основу достигнуте HR при раду на стандардним субмаксималним оптерећењ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а се заснива на следећим функционалним законитост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Индивидуалне вредности HR и VO2 max су у линеарном, међусобно директно пропорционалном односу током рада умереног интензитета, све до максималног нивоа нап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Интериндивидуална варијабилност максималне срчане фреквенције код појединих старосних група је мала, па њено уједначавање преко формул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HR = 220 - године старости у процедури израчунавања резултата тестирања не даје велике греш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ндиректна проце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2 ma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Oд свих субмаксималних тестова за индиректну процену VO2 max до сада је најчешће коришћен Астрандов тест оптерећења на бицикл ергомет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реирању тренажних циклуса и периодизације од есенцијалне је важности знати циљ и ефекат сваког појединачног тренинга, а то подразумева 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знање који енергетски систем је доминантан приликом одређене физичке активности, то јест тог специфичног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ити фактори одлучују који од система ће бити покренут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еђу одлучујуће факторе свакако спадају интензитет тренинга, дуж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јања и врста тренинга и физичке 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укција енергије зависи од трајања активности, али и само трајање активности зави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 продукциј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еробни извори обезбеђују енергију за почетак физичке активности и за мишићни рад високог интензит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се такође активирају као додатни извор енергије током интензивнијег аеробног рада, када потребе активних скелетних мишића превазилазе могућност стварања енергије аеробним пут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ЛОГА АДЕНОЗИН-ТРИФОСФАТА 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ПОНОВАЊУ И ПРЕНОСУ 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разумевање граница физичке активности важно је разликовање и разумевање три основна енергетско-метаболичка система, а то су фосфатни систем (систем фосфагена), систем гликоген – млечна киселина и аеробн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отпуно разумевање ових система треба испитати и међусобну интеракцију и њихову релевантност и повезаност с физичком активношћу, и анализирати налазе најновијих истраживања у овој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раткотрајну интензивну физичку активност (&lt; 10 s) и употребу анаеробне производње енергије из фосфокреатина надовезује се анаеробна гликолиза као извор енергијен уколико интензивна активност потраје још неко време (до 2 min), док се за активност дужег трајања активирају аеробни процеси производње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ључивање аеробних енергетских потенцијала почиње 2–4 min од почетка рада, јер је то време потребно за адаптацију кардиореспираторног система на напор, чиме се омогућава боља снабдевеност активних мишића кисеони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билно стање (steady state) метаболичких проц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раду на одређеном субмаксималном нивоу напора, потрошња кисеоника се постепено повећава све док се не успостави такозвано стабилно стање (steady state) метаболичких проц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о стање, при ком је достигнута потрошња кисеоника једнака енергетским захтевима рада, може се остварити на свим нивоима субмаксималног оптерећења, све до такозваног анаеробног прага и одликује се достизањем платоа у потрошњи кисеоника и порасту срчане фреквенциј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еробни пра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еробни праг је тачка на којој концентрација лактата у крви достиже ниво од 4 mmol/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се интензитет рада и даље повећава, доћи ће до наглог повећања концентрације лактата. Управо је ово знак да је због исцрпљења аеробних енергетских ресурса у процесу стварања енергије дошло до поновне употребе анаеробних ресурса и сист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ргетски системи се разликују и по типу супстрата који користе за производњу ATP-а. Као супстрати у процесима настанка енергије могу се користити масти, протеини и угљени хидр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љени хидрати, ускладиштени у форми гликогена, налазе се у мишићима и јет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ген може да се користи за производњу ATP-а а у јетри може да се конвертује у глукозу и даље транспортује до мишића путем кр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црпни тренинзи могу у потпуности да испразне депое угљених хидрата у мишићима и јетри, као и рестрикција њиховог уноса у исхр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љени хидрати брже ослобађају енергију од м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о ни масти, протеини не могу обезбеђивати енергију у истој мери, то јест истом брзином као угљени хидр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а брзина је одређена различитим фактор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имер, ако је расположиво мање енергетских извора, тело ће првенствено њих троши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НЕРГЕТСКО ОБЕЗБЕЂЕЊЕ МИШИЋНОГ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А РАЗЛИЧИТОГ ТР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ост анаеробног енергетског система је у томе што је у сваком тренутку доступан и ефикасан у смислу брзог добијања потребне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ци овог система огледају се у томе што је с енергетског становишта нерационалан, лимитиран и кратко употребљив, јер служи за производњу енергије која је довољна за само 2–3 m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17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ЛОГА АДЕНОЗИН-ТРИФОСФАТА 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ПОНОВАЊУ И ПРЕНОСУ 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и извор енергије у нашем организму за многе ћелијске процесе, а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 контракцију мишића, јесте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 ATP састоји се од аденози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ри групе анорганског фосфата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ај три фосфатне јединице у једн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ји енергетски је неповољан, па отпуштањем једне фосфатне јединице настаје одговарајући дифосф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је аденозин-дифосфат и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P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би се надокнадиле лимитиране залих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, хемијске реакције додају групу фосфата назад 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P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да би се опет креирао аденозин-трифосф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ј битан процес се назива фосфорил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ЛОГА АДЕНОЗИН-ТРИФОСФАТА 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ПОНОВАЊУ И ПРЕНОСУ 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се фосфорилација одвија уз присуство кисеоника, онда је реч о аеробној фосфорилацији или оксидативној фосфорилац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олико се одвија у анаеробним условима, без присуства кисеоника, онда је реч о анаеробном метаболиз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СИНТЕЗ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ршне етапе у синтези ATP-а се одвијају у митохондрији, и могу генерисати до 36 ATP. Укупна количина ATP-а у људском телу износи око 0,1 m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ргија коју користе људске ћелије захтева хидролизу 200 до 300 mol ATP-а дн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аки молекул ATP-а рециклира 2000 до 3000 пута сваког дана. ATP не може бити ускладиштен, па стога његова потрошња мора да следи убрзо након синте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ЛОГА АДЕНОЗИН-ТРИФОСФАТА 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ПОНОВАЊУ И ПРЕНОСУ 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904760"/>
            <a:ext cx="8763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келетном мишићу енергија ATP-а је потребна за: циклусе попречних веза (50–80% ATP-а), преузимање Ca2+ у саркоплазматском ретикулуму (20–30% ATP-а), рад пумпе за Na+ и K+, али и за основне ћелијске проце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ATP-а у скелетном мишићу су пре свега гликоген депонован у ћелији, из којег се добија енергија која је довољна за првих десетак минута рада мишића, али и глукоза и слободне масне киселине из крви, из којих се добија енергија после тридесетак минута рада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ФОСФАГЕНИ СИСТЕ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атин фосф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ина ATP-а која се налази у мишићима, чак и код добро утренираних спортиста, довољна је за одржавање максималне снаге мишића само током 3s (50m спри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сфагени систем (заједно ATP и фосфокреатин) могу омогућити максималну мишићну контракцију током 8–10s (једва довољно за 100m спри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ГЛИКОГЕН- МЛЕЧНА КИСЕЛ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еробна гликолиза је предоминантан енергетски систем који се користи за максималне напоре у трајању од 30 секунди до 2 минута, и то је други најбржи начин да се ресинтетише AT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ом гликолизе, угљени хидрати у форми глукозе (шећера) или гликогена у мишићима (форма глукозе, али у резерви) разлажу се различитим хемијским реакцијама да би формирали пирува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8:58:44Z</dcterms:created>
  <dc:creator>brizita</dc:creator>
  <dc:description/>
  <dc:language>en-US</dc:language>
  <cp:lastModifiedBy>Jovana Joksimovic</cp:lastModifiedBy>
  <dcterms:modified xsi:type="dcterms:W3CDTF">2024-02-19T09:18:59Z</dcterms:modified>
  <cp:revision>126</cp:revision>
  <dc:subject/>
  <dc:title>SPORTSKA ISHRANA</dc:title>
</cp:coreProperties>
</file>